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D175-168B-4149-9B20-736C998E8467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DCA4-0F23-44A4-8EF7-58613566173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E121-2DEA-47CB-9EB6-07F1310A32F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4139-88FC-40D2-A857-6DCF71E27A6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FE03-8CE0-4F17-B385-D31D36FAD73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F4C3-6F61-4593-B784-FD4F4BE0BE0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2E3D-7F70-4232-8DA1-2B050B33BD5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F891-3309-4C1A-B3D9-FA156F7C822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3102-4DA7-404E-AC0E-8238928A419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28B-9987-4648-A304-E50A0657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D11-1A7D-4D8E-81C0-E0D3804C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B946-A0A1-4457-B226-B1DC6DA4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34C-8DFA-4DA8-9208-3509F395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EE27-F9F4-4BE1-842A-C37EF2FC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788F-1513-4435-B396-55CCB480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6840-7DD1-4A9F-B3B4-2279839D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9CE1-C8CC-4395-9595-5276F602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60A2-DF3D-41AF-8B43-D3875562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4C9C-AE96-42E9-9731-05B4C2ED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2198-2C07-463F-9C61-D5C1C53A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2A25-8420-413D-9128-CB45D4CE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7A84-1958-4C83-9794-7CA21606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7CC1-917F-4F4E-AEAB-D667FA62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FF5D-793E-4E79-9C6B-58B1065A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304F-127F-42B8-AEAC-5D88DE0E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BCCA-2549-4FAD-B561-A48D7E99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CFCC-406A-41A6-BB92-76AE14BD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A5E-5EAE-4994-B803-B24CDF47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980-A4B8-4FB8-AE5D-4B954C34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970F-0E6E-4A86-A86E-37072BB4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3EF1-73E5-474B-B094-A0B1A4A1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E9DB-4548-45AA-B74A-BF041D34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7A44-F491-4E8E-935D-75CBF712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5F51-3394-4486-B01D-60B0379E1A8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80E8-BCF2-4E28-B5C8-7A0FD87914A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iid.lv/" TargetMode="External"/><Relationship Id="rId2" Type="http://schemas.openxmlformats.org/officeDocument/2006/relationships/hyperlink" Target="http://www.profesijupasaule.lv/" TargetMode="External"/><Relationship Id="rId3" Type="http://schemas.openxmlformats.org/officeDocument/2006/relationships/hyperlink" Target="http://www.viaa.gov.lv/lat/karjeras_atbalsts/euroguidance_sadala/kad_zinu_izdevumi/" TargetMode="External"/><Relationship Id="rId4" Type="http://schemas.openxmlformats.org/officeDocument/2006/relationships/hyperlink" Target="http://www.prakse.lv/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niid.lv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Zini informācijas resurs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 – 7. klašu jaunieš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ETEIKUMI INFORMĀCIJAS MEKLĒŠANA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irms sāc meklēt informāciju – saplāno, ko tieši tu gribi atrast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Izmanto dažādus informācijas avotus, lai iegūtu pēc iespējas plašāku informāciju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ārbaudi informācijas precizitāti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800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grāmatas un metodika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Veido savu karjeru pats!”, grāmata patstāvīgai profesijas izvēlei”; “„Kurš mācību priekšmets man patīk vislabāk? Padomi veiksmīgai karjeras izvēlei”; karjeras izvēles testi internetā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academic,books,calculators,educations,homework,kids,pencils,people,students,studies,thinking"/>
          <p:cNvPicPr/>
          <p:nvPr/>
        </p:nvPicPr>
        <p:blipFill>
          <a:blip r:embed="rId1"/>
          <a:stretch/>
        </p:blipFill>
        <p:spPr>
          <a:xfrm>
            <a:off x="7885080" y="3860640"/>
            <a:ext cx="12225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7"/>
          <p:cNvSpPr/>
          <p:nvPr/>
        </p:nvSpPr>
        <p:spPr>
          <a:xfrm>
            <a:off x="39528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UZZINĀT PAR IZGLĪTĪBAS IESPĒJĀM UN PROFESI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413000"/>
            <a:ext cx="8928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0" anchor="t">
            <a:normAutofit fontScale="99000"/>
          </a:bodyPr>
          <a:p>
            <a:pPr marL="339480" indent="-339480"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taujājot cilvēku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esošos un bijušos studentus, profesionāļus, paziņas, radiniekus u.c. 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nternetā:</a:t>
            </a:r>
            <a:endParaRPr b="0" lang="en-US" sz="26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pēju vai darba sludinājumu datubāze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tāžu mājaslapās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twitter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facebook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 profilo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jauniešu un nevalstisko organizāciju mājaslapā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uzņēmumu vai profesionālo asociāciju mājaslapās u.c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Grāmat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ju aprakstu katalogs”) </a:t>
            </a: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un  preses izdevumo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Diena”, “Dienas bizness”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Videofilm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onālās darbības jomas Latvijā”, “Karjeras un izglītības iespējas meža nozarē”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pētot uz vieta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Skola 2013, atvērto durvju dienas, ēnu dienas, “viltus students” un “viltus klients”...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4" name="Picture 5" descr="communications,computer hardware,connectivity,Earth,globes,Internet,maps,metaphors,monitors,networking,networks,office,PCS,planets,science,technology,World Wide Web,worlds,WWW"/>
          <p:cNvPicPr/>
          <p:nvPr/>
        </p:nvPicPr>
        <p:blipFill>
          <a:blip r:embed="rId1"/>
          <a:stretch/>
        </p:blipFill>
        <p:spPr>
          <a:xfrm>
            <a:off x="7451640" y="256536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5075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DARĪT AR APKOPOTO INFORMĀCIJ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līdzināt ar sākotnējo plānu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visa nepieciešamā informācij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parādījušies jauni izpētes ceļ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zanalizēt, lai atmestu lieko un izceltu būtisko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t rezultātus ar cit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7" name="Picture 5" descr="business,businessmen,businesswomen,documents,females,looking,males,men,papers,people,persons,plans,reviewing,women"/>
          <p:cNvPicPr/>
          <p:nvPr/>
        </p:nvPicPr>
        <p:blipFill>
          <a:blip r:embed="rId1"/>
          <a:srcRect l="0" t="9303" r="0" b="11606"/>
          <a:stretch/>
        </p:blipFill>
        <p:spPr>
          <a:xfrm>
            <a:off x="6300720" y="4221000"/>
            <a:ext cx="23036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6372360" y="6237360"/>
            <a:ext cx="1368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19564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1341360"/>
            <a:ext cx="867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acionālā izglītības iespēju datubāz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iid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ortāls “Profesiju Pasaule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profesijupasaule.lv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Eiropas Komisijas informācijas apmaiņas un konsultāciju tīkls EUROGUIDANC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viaa.gov.lv/lat/karjeras_atbalsts/euroguidance_sadala/kad_zinu_izdevumi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Jauniešu konsultācijas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akse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rcRect l="13668" t="10626" r="16544" b="11833"/>
          <a:stretch/>
        </p:blipFill>
        <p:spPr>
          <a:xfrm>
            <a:off x="1908000" y="1420920"/>
            <a:ext cx="5904000" cy="524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7640" y="2924280"/>
            <a:ext cx="1368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tāj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108000" y="386064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šanas sagat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>
            <a:off x="1332000" y="3141720"/>
            <a:ext cx="1080000" cy="2167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6" name="Straight Arrow Connector 10"/>
          <p:cNvCxnSpPr/>
          <p:nvPr/>
        </p:nvCxnSpPr>
        <p:spPr>
          <a:xfrm flipV="1">
            <a:off x="1618920" y="3715560"/>
            <a:ext cx="2377080" cy="73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7" name="Text Placeholder 2"/>
          <p:cNvSpPr/>
          <p:nvPr/>
        </p:nvSpPr>
        <p:spPr>
          <a:xfrm>
            <a:off x="7596360" y="3357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zglītības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2"/>
          <p:cNvCxnSpPr/>
          <p:nvPr/>
        </p:nvCxnSpPr>
        <p:spPr>
          <a:xfrm flipH="1">
            <a:off x="6803640" y="3716280"/>
            <a:ext cx="1008720" cy="505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9" name="Text Placeholder 2"/>
          <p:cNvSpPr/>
          <p:nvPr/>
        </p:nvSpPr>
        <p:spPr>
          <a:xfrm>
            <a:off x="108000" y="5373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Aktuālā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7"/>
          <p:cNvCxnSpPr/>
          <p:nvPr/>
        </p:nvCxnSpPr>
        <p:spPr>
          <a:xfrm>
            <a:off x="1402920" y="5444640"/>
            <a:ext cx="57708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1" name="Text Placeholder 2"/>
          <p:cNvSpPr/>
          <p:nvPr/>
        </p:nvSpPr>
        <p:spPr>
          <a:xfrm>
            <a:off x="6516720" y="551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espēja saņemt e-konsultācij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0"/>
          <p:cNvCxnSpPr/>
          <p:nvPr/>
        </p:nvCxnSpPr>
        <p:spPr>
          <a:xfrm flipH="1" flipV="1">
            <a:off x="5866920" y="5876280"/>
            <a:ext cx="72144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ACIONĀLĀ IZGLĪTĪBAS IESPĒJU DATUBĀZE</a:t>
            </a:r>
            <a:br>
              <a:rPr sz="3600"/>
            </a:br>
            <a:r>
              <a:rPr b="0" lang="lv-LV" sz="2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NIID.LV</a:t>
            </a:r>
            <a:r>
              <a:rPr b="1" lang="lv-LV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4" name="Straight Arrow Connector 13"/>
          <p:cNvCxnSpPr/>
          <p:nvPr/>
        </p:nvCxnSpPr>
        <p:spPr>
          <a:xfrm flipH="1" flipV="1">
            <a:off x="6803280" y="4436280"/>
            <a:ext cx="864360" cy="723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5" name="Text Placeholder 2"/>
          <p:cNvSpPr/>
          <p:nvPr/>
        </p:nvSpPr>
        <p:spPr>
          <a:xfrm>
            <a:off x="7596360" y="450864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Testi karjeras izvē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0" y="525600"/>
            <a:ext cx="9144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</a:rPr>
              <a:t>PROFESIJU PAS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ofesijupasaule.lv</a:t>
            </a: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4524" t="6784" r="5031" b="18603"/>
          <a:stretch/>
        </p:blipFill>
        <p:spPr>
          <a:xfrm>
            <a:off x="324000" y="1413000"/>
            <a:ext cx="8250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"/>
          <p:cNvPicPr/>
          <p:nvPr/>
        </p:nvPicPr>
        <p:blipFill>
          <a:blip r:embed="rId1"/>
          <a:srcRect l="0" t="5178" r="15083" b="2916"/>
          <a:stretch/>
        </p:blipFill>
        <p:spPr>
          <a:xfrm>
            <a:off x="1476360" y="1413000"/>
            <a:ext cx="6288120" cy="5445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69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EUROGUIDANCE TĪKLA LATVIJAS NODAĻA</a:t>
            </a:r>
            <a:br>
              <a:rPr sz="3200"/>
            </a:br>
            <a:r>
              <a:rPr b="0" lang="lv-LV" sz="1800" spc="-1" strike="noStrike" u="sng">
                <a:solidFill>
                  <a:srgbClr val="17375e"/>
                </a:solidFill>
                <a:uFillTx/>
                <a:latin typeface="Calibri"/>
              </a:rPr>
              <a:t>http://www.viaa.gov.lv/lat/karjeras_atbalsts/euroguidance_sadala/kad_zinu_izdevumi/ </a:t>
            </a:r>
            <a:r>
              <a:rPr b="1" i="1" lang="lv-LV" sz="18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763640" y="6021360"/>
            <a:ext cx="935280" cy="2872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1619280" y="5805360"/>
            <a:ext cx="865080" cy="21600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716360" y="1916280"/>
            <a:ext cx="1728720" cy="5047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1692360" y="5229360"/>
            <a:ext cx="1081080" cy="28872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13222" t="8390" r="15207" b="31698"/>
          <a:stretch/>
        </p:blipFill>
        <p:spPr>
          <a:xfrm>
            <a:off x="684360" y="1365120"/>
            <a:ext cx="8135640" cy="5448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NVO JAUNIEŠU KONSULTĀCI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akse.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Saprast, kāda informācija nepieciešama, lai plānotu savu karjer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Apzināties veidus, kā iegūt nepieciešamo informācij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izglītības iespējām Latvijā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dažādiem informācijas avotiem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41300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darbinātības valsts aģentūra </a:t>
            </a:r>
            <a:r>
              <a:rPr b="0" lang="lv-LV" sz="3200" spc="-1" strike="noStrike" u="sng">
                <a:solidFill>
                  <a:srgbClr val="006a7b"/>
                </a:solidFill>
                <a:uFillTx/>
                <a:latin typeface="Calibri"/>
              </a:rPr>
              <a:t>www.nva.gov.lv/pkiva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rivātie personāla atlases uzņēmumi, piemēram, www.cv.lv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www.workingday.lv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u un profesionālās asociāciju mājas lapas, profesionāļu forum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0" y="4046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ODARBINĀTĪBAS VALSTS AĢEN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6600"/>
                </a:solidFill>
                <a:latin typeface="Arial Narrow"/>
              </a:rPr>
              <a:t>http://www.nva.gov.lv/pkiva/index.php?cid=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10459" t="7039" r="11516" b="7113"/>
          <a:stretch/>
        </p:blipFill>
        <p:spPr>
          <a:xfrm>
            <a:off x="1835280" y="1557360"/>
            <a:ext cx="5978520" cy="5261040"/>
          </a:xfrm>
          <a:prstGeom prst="rect">
            <a:avLst/>
          </a:prstGeom>
          <a:ln w="0">
            <a:noFill/>
          </a:ln>
        </p:spPr>
      </p:pic>
      <p:sp>
        <p:nvSpPr>
          <p:cNvPr id="160" name="Oval 4"/>
          <p:cNvSpPr/>
          <p:nvPr/>
        </p:nvSpPr>
        <p:spPr>
          <a:xfrm>
            <a:off x="4067280" y="2205000"/>
            <a:ext cx="172872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rcRect l="9821" t="8393" r="11610" b="9353"/>
          <a:stretch/>
        </p:blipFill>
        <p:spPr>
          <a:xfrm>
            <a:off x="4157640" y="1413000"/>
            <a:ext cx="4986360" cy="417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11613" t="9331" r="12912" b="41941"/>
          <a:stretch/>
        </p:blipFill>
        <p:spPr>
          <a:xfrm>
            <a:off x="0" y="3976560"/>
            <a:ext cx="5580000" cy="2881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179280" y="4046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ERSONĀLA ATLASES UZŅĒMU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CV.LV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WORKINGDAY.L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6" name="Picture 6" descr="academics,commencements,graduations,mortarboards,special occasions,tassels,textbooks"/>
          <p:cNvPicPr/>
          <p:nvPr/>
        </p:nvPicPr>
        <p:blipFill>
          <a:blip r:embed="rId1"/>
          <a:stretch/>
        </p:blipFill>
        <p:spPr>
          <a:xfrm>
            <a:off x="3924360" y="4437000"/>
            <a:ext cx="15825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84280"/>
            <a:ext cx="849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1. Iev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2. Kāda informācija nepieciešama, lai plānotu savu karj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3. Kur un kā iegūt nepieciešam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4. Ko darīt ar apkopot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5. Izglītības sistēma Latv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6. Informatīvie resursi interne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7. Kopsavilk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IEVADS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varīgi atcerēties: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s pieejamība sniedz iespēj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pieņemt vislabāko lēmum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tač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i jābūt precīzai, plašai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un atbilstošai izvirzītajam mērķi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97" name="Picture 7" descr="1281091899-7855"/>
          <p:cNvPicPr/>
          <p:nvPr/>
        </p:nvPicPr>
        <p:blipFill>
          <a:blip r:embed="rId1"/>
          <a:stretch/>
        </p:blipFill>
        <p:spPr>
          <a:xfrm>
            <a:off x="7812000" y="5013360"/>
            <a:ext cx="9907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1979640" y="1916280"/>
            <a:ext cx="468000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7"/>
          <p:cNvSpPr/>
          <p:nvPr/>
        </p:nvSpPr>
        <p:spPr>
          <a:xfrm>
            <a:off x="108000" y="1700280"/>
            <a:ext cx="1800000" cy="1657440"/>
          </a:xfrm>
          <a:prstGeom prst="wedgeRoundRectCallout">
            <a:avLst>
              <a:gd name="adj1" fmla="val 96569"/>
              <a:gd name="adj2" fmla="val 40171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L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RT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8"/>
          <p:cNvSpPr/>
          <p:nvPr/>
        </p:nvSpPr>
        <p:spPr>
          <a:xfrm>
            <a:off x="6659640" y="1700280"/>
            <a:ext cx="2305080" cy="1800000"/>
          </a:xfrm>
          <a:prstGeom prst="wedgeRoundRectCallout">
            <a:avLst>
              <a:gd name="adj1" fmla="val -85666"/>
              <a:gd name="adj2" fmla="val 3405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RAS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ZINĀŠ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RAKSTURA ĪPAŠ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SELĪBAS STĀVOK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FINANSIĀLĀS IE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9"/>
          <p:cNvSpPr/>
          <p:nvPr/>
        </p:nvSpPr>
        <p:spPr>
          <a:xfrm>
            <a:off x="1187280" y="4869000"/>
            <a:ext cx="1800360" cy="1655640"/>
          </a:xfrm>
          <a:prstGeom prst="wedgeRoundRectCallout">
            <a:avLst>
              <a:gd name="adj1" fmla="val 94171"/>
              <a:gd name="adj2" fmla="val -49939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IEPRASĪJUMS DARBA TIRG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DA INFORMĀCIJA NEPIECIEŠAMA, LAI PLĀNOTU SAVU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i interesē tas, 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rime scenes,evidence,fingerprints,government,magnifying glasses,detectives,investigations,clues"/>
          <p:cNvPicPr/>
          <p:nvPr/>
        </p:nvPicPr>
        <p:blipFill>
          <a:blip r:embed="rId1"/>
          <a:stretch/>
        </p:blipFill>
        <p:spPr>
          <a:xfrm>
            <a:off x="6948360" y="3860640"/>
            <a:ext cx="17989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PROFES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360"/>
            <a:ext cx="8640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dara šīs profesijas pārstāvji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apstākļos jāstrādā (telpas, darba stundas, instrumenti, ietekme uz veselību u.tml.)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jāzina un jāpro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sniedz gandarījumu un kādas ir “ēnas puses”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un kurās mācību iestādēs var ap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uzņēmumos un organizācijās var strādā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izaugsmes iespē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profesi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s ir iespējamais atalgojum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pieprasīta darba tirgū tā ir/bū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tretch/>
        </p:blipFill>
        <p:spPr>
          <a:xfrm>
            <a:off x="738036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IZGLĪTĪBAS IESPĒ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134100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ās mācību iestādēs var apgūt interesējošo profesij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specialitāte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u profesionālo kvalifikāciju var ie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nepieciešams, lai uzsāktu mācīb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varēs turpināt izglītīb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 atrodas mācību iestāde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ilgi jāmācā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Mācību maksa, budžeta viet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Prakses iespējas mācību laikā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Darba iespējas pēc mācībām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1" name="Picture 5" descr="academic,education,funnels,knowledge,learning,men,metaphors,people,students,training"/>
          <p:cNvPicPr/>
          <p:nvPr/>
        </p:nvPicPr>
        <p:blipFill>
          <a:blip r:embed="rId1"/>
          <a:srcRect l="30248" t="0" r="30224" b="0"/>
          <a:stretch/>
        </p:blipFill>
        <p:spPr>
          <a:xfrm>
            <a:off x="7421400" y="1916280"/>
            <a:ext cx="11113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TU VARI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i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i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Pieņem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lēmumu</a:t>
            </a: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14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6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2-11-12T07:35:18Z</dcterms:modified>
  <cp:revision>241</cp:revision>
  <dc:subject/>
  <dc:title>Slide 1</dc:title>
</cp:coreProperties>
</file>